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A9B-EC91-4BEA-A655-BFE5F9E8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6DE-2588-45A0-A949-8BBC07AB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C7D-E41A-4461-9602-7DF284A7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0F8-3B4C-48BF-9AB4-89B6477F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A430-2B4A-47DF-A94D-1E25DEFD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300B-09CD-47DE-8D73-565C562E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A1E0-DF4D-494E-9B84-B1244D52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828C-E9B5-486E-A499-FE9EC3CA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7140-0BCB-4C5C-B7E9-FB48BDE8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1A04-BD09-4AEA-9232-4B9BF141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A934-B5DB-46B2-93FA-B44AC4E8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AD4-695F-4AF5-93EC-899141F7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DD05-99A9-4ACA-8119-894B7EC9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1CAB-072D-4881-8536-6F8B6B7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56B2-D2A2-4D46-9723-75ADBAF4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ADE8-8694-4600-8554-85EAF037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533C-EF36-4E8C-A928-E370A43A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CAA-F576-4840-A640-4B0E120C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BD4-0995-453E-AFE2-86BFA213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241-8812-4EDE-8F3C-A11A57AB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0A9-92FB-4F8F-A281-434BCAB9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A68-10D6-49DB-A502-BE58EE6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11D-388A-411F-89E6-08638191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9C5-2C1E-495C-8F01-E757BACA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CEC64-DF1F-4BA1-B243-9CCD8D708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A0C48-F955-4AAF-8E78-CA377679E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ston Tea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94040"/>
            <a:ext cx="885492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onnor, Tristan, Jocelyn, Destin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id it happen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ns Of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sts who supported the colony's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India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ists disguised themselves as Mohawk In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oarded a tea ship from the East India Compan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ed 342 crates of tea into the Boston Har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id it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ppened on December 16,17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it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ed in the Boston Water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East India Trading Company's tea 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569520"/>
            <a:ext cx="8459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 it happen, and what was the outc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ists were furious with the new tax on tea that was part of the Tea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rcive Acts or, named by the colonists, The Intolerable Acts stopped all trade until all the tea was payed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2:57:21Z</dcterms:created>
  <dc:creator/>
  <dc:description/>
  <dc:language>en-US</dc:language>
  <cp:lastModifiedBy/>
  <cp:revision>1</cp:revision>
  <dc:subject/>
  <dc:title/>
</cp:coreProperties>
</file>